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0FE1-DBC2-4972-8836-946658404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8F010-641D-4C01-98EA-78CE2429F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34D5-255B-4456-91FA-2E6EF6A97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C52D-BE06-4BB7-BB5B-E26BDB1F2F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05A0B-D537-485D-8739-62F598A4B9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EA39A-C37F-4ADD-B584-6865CAC55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8B3A8-FC6B-46ED-AADC-6C8E73EA7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D7D14-BC26-4B46-B8ED-21969C28B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6560-BFE4-4162-A69D-5511CE46D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B390-5630-4438-98B5-233D54901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F6E1C-C8FF-4428-8462-DC29B492E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0C828-D4CF-4EFC-AD94-95B2622B7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21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6048360"/>
            <a:ext cx="70164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1760" y="6605640"/>
            <a:ext cx="237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u und Mythos -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23360" y="6570720"/>
            <a:ext cx="620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0F30-BECA-4D28-ACF1-560C2207FF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5040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4032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79280" y="3024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179280" y="2016000"/>
            <a:ext cx="701640" cy="981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179280" y="100800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179280" y="0"/>
            <a:ext cx="70164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rau und Mytho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59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2002 -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6090-18FD-479D-B661-3625D3B1C6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eitpla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54936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D8D8-3657-4D3B-8FA4-CFCF5B14F9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Bewertungskriteri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5498-4BFF-4094-955D-FEA94C0B59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durch die beteiligten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fragebogen für die SchülerIn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-Aktivitä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CDF5-D0AC-4D6E-94FC-1A49DDE3A4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ojekttea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A A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B 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 RG Bru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 RG Me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d mehrere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FFD0A-D497-4433-A7A1-7DF219AE91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ssen über alte und neue Mythen erwei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amarbeit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mmunikation und Kooperation online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elbstverantwortetes Lern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reativität und Information v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äsentieren und Visualisier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6959-4BFD-4EA4-B052-20041C897D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as ist zu tun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354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ppen bil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 entwer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idee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eitsteilung und Zusammenarbeit mit Partnergruppe planen (For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tageb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 ausarb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ä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0CB7-01B1-420C-A3E5-E03036790A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o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ot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05AA-E69F-4929-A293-A7FECB337C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ie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ie Projektarb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enverantwort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teilung mit der Partnergru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ln einha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ge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verantwortung fü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anze Proj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B9E5-18D2-4CC7-8B39-6FD3ED41F8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Gruppenbildu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Gru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4 Mitglie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penlei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munik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A189-2007-4253-BEC9-9E9E2C19A2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4FEC8-6ABC-4CD8-9619-DA554F2D4A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Them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32400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th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y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z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em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89080"/>
            <a:ext cx="32400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ni Riefenst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ra 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ylin Monr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ippi Langstrum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eanne d´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0B730-D9A2-499A-BDE8-6B5C9AA6A8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7:54:37Z</dcterms:created>
  <dc:creator>ah</dc:creator>
  <dc:description/>
  <dc:language>en-US</dc:language>
  <cp:lastModifiedBy>ah</cp:lastModifiedBy>
  <dcterms:modified xsi:type="dcterms:W3CDTF">2003-09-29T14:25:02Z</dcterms:modified>
  <cp:revision>22</cp:revision>
  <dc:subject/>
  <dc:title>Folie 1</dc:title>
</cp:coreProperties>
</file>